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180B8-5A4B-4FEB-B6C6-5C91CE460D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619FA-22C0-44F9-A7CD-94B365C0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2306C-E96D-4D45-A777-6ABF8A99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F9202-8502-4CB1-9DDD-9264B96A02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D2488-0097-48EE-8EAB-567C1CA1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D0AC6-06B2-4FFF-AF5F-9E21F666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7CAE1-33E5-4198-B7CA-B54026A0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1C9E0-08AF-4E30-A328-D481929E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D9B77-F46A-43CD-9EFE-9C7F06AD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16E5A-E04C-43B4-9993-1CE17C7A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7FB4A-E249-49AC-8339-8B9864B8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DCD22-3915-4A71-81A2-FD14D7C5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74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8D541-B0C4-4785-A029-CD9AC1F5D050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74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965920" y="-41400"/>
            <a:ext cx="3387600" cy="7056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5880" y="819000"/>
            <a:ext cx="6215040" cy="28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LA CONCEPTION ARCHITECTURALE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PAR LE NUMER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00880" y="5929200"/>
            <a:ext cx="264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57b17"/>
                </a:solidFill>
                <a:latin typeface="Calibri"/>
              </a:rPr>
              <a:t>24/04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57b17"/>
                </a:solidFill>
                <a:latin typeface="Calibri"/>
              </a:rPr>
              <a:t>CAUSSAT ARNA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57b17"/>
                </a:solidFill>
                <a:latin typeface="Calibri"/>
              </a:rPr>
              <a:t>SEMINAIRE FINC-A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74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65920" y="-41400"/>
            <a:ext cx="3387600" cy="7056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000" y="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CONCEPTION ARCHITECTURALE PAR LE </a:t>
            </a:r>
            <a:r>
              <a:rPr b="0" lang="fr-FR" sz="2400" spc="-1" strike="noStrike">
                <a:solidFill>
                  <a:srgbClr val="f57b17"/>
                </a:solidFill>
                <a:latin typeface="Calibri"/>
              </a:rPr>
              <a:t>NUME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7120" y="1357200"/>
            <a:ext cx="62578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SUJE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’usage des technologies numériques comme support des processus de conception en archite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ROBLEMATIQU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 quel point l’usage  du numérique pour concevoir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matérialiser/interroger la pensée - peut-il influencer la manière de générer l’e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ers une approche radicalement différent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760" y="5500800"/>
            <a:ext cx="57150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ommentair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- Approfondir notion outil/instrument (gilbert simondon, </a:t>
            </a:r>
            <a:r>
              <a:rPr b="0" i="1" lang="fr-FR" sz="1400" spc="-1" strike="noStrike">
                <a:solidFill>
                  <a:srgbClr val="000000"/>
                </a:solidFill>
                <a:latin typeface="Calibri"/>
              </a:rPr>
              <a:t>Du mode d'existence des objets techniqu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éciser le champ d’étude (fonction des recherch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- Définition des termes récurr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28800"/>
            <a:ext cx="6286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74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4120" y="1357200"/>
            <a:ext cx="625788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INTRODUCTION :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LE PROCESSUS DE CON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plication par l’exemple du CROQUIS: génèse du processus de conce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croquis : support habituel de la pensée de la Renaissance Italienne à nos jo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SYNTHESE :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bref résumé théorique de ce qu’est un processus de conce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   L’apport des sciences cognitives : la conception par analog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8760" y="571500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ommentair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- Le croquis : mise en lumière d’un processus de conception éprou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- Permettre une analyse comparative (implicite) avec le numérique (suite du mémoir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65920" y="-41400"/>
            <a:ext cx="3387600" cy="7056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928800"/>
            <a:ext cx="6286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429680" y="1357200"/>
            <a:ext cx="1477800" cy="1357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786720" y="2643120"/>
            <a:ext cx="1322280" cy="1565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429240" y="4597560"/>
            <a:ext cx="2714760" cy="147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7824960" y="3071880"/>
            <a:ext cx="1319040" cy="1555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6000" y="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CONCEPTION ARCHITECTURALE PAR LE </a:t>
            </a:r>
            <a:r>
              <a:rPr b="0" lang="fr-FR" sz="2400" spc="-1" strike="noStrike">
                <a:solidFill>
                  <a:srgbClr val="f57b17"/>
                </a:solidFill>
                <a:latin typeface="Calibri"/>
              </a:rPr>
              <a:t>NUME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74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1357200"/>
            <a:ext cx="632952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EVELOPPEME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Char char="-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périence personnelle: travail de conception collaboratif dans Second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ESENTATION DE TRAVAUX ACTU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s agences/centre de recherche travaillant sur la potentialité de la conception numéri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   dECOI (Mark Gouthor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Char char="-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&amp;Sie</a:t>
            </a: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illustration : I’ve heard about…(A flat, fat, growing urban experiment), 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Char char="-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ANALYSE :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ise en relation des différents travaux : tentativ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potentiel de la conception numér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8760" y="5929200"/>
            <a:ext cx="5572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ommentair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Ensemble des travaux support de la réflex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Travail de recherche à approfondi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65920" y="-41400"/>
            <a:ext cx="3387600" cy="7056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28800"/>
            <a:ext cx="6286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929720" y="3143160"/>
            <a:ext cx="1036440" cy="1557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215120" y="1214280"/>
            <a:ext cx="1644840" cy="119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429240" y="2428920"/>
            <a:ext cx="1500480" cy="2349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572160" y="4929120"/>
            <a:ext cx="2428920" cy="1486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215040" y="6386400"/>
            <a:ext cx="300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f57b17"/>
                </a:solidFill>
                <a:latin typeface="Calibri"/>
              </a:rPr>
              <a:t>Illustration: R&amp;Sie</a:t>
            </a:r>
            <a:r>
              <a:rPr b="0" lang="en-US" sz="1000" spc="-1" strike="noStrike">
                <a:solidFill>
                  <a:srgbClr val="f57b17"/>
                </a:solidFill>
                <a:latin typeface="Calibri"/>
              </a:rPr>
              <a:t>, I’ve heard about…(A flat, fat, growing urban experiment)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6000" y="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CONCEPTION ARCHITECTURALE PAR LE </a:t>
            </a:r>
            <a:r>
              <a:rPr b="0" lang="fr-FR" sz="2400" spc="-1" strike="noStrike">
                <a:solidFill>
                  <a:srgbClr val="f57b17"/>
                </a:solidFill>
                <a:latin typeface="Calibri"/>
              </a:rPr>
              <a:t>NUME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74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357200"/>
            <a:ext cx="6186600" cy="35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CONCLUS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uveaux processus de conception engendre une nouvelle manière d’appréhender la conception de l’espaces. Mise à profit des nouvelles technolog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uvertu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’architecte du futur ?  Mutation d’un métier (spéculation sur le rôle futur de l’architecte comparativement à nos jour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7120" y="7143840"/>
            <a:ext cx="557208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ommentair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- Le croquis entendu comme étant …bidimensio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- Permettre une analyse comparative (implicite) avec le numérique (suite du mémoire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65920" y="-41400"/>
            <a:ext cx="3387600" cy="7056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928800"/>
            <a:ext cx="6286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0040" y="4570560"/>
            <a:ext cx="561960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IBLIOGRAPHIE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Estevez Daniel. </a:t>
            </a: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Dessin d'architecture et infographie : l'évolution contemporaine des pratiques graphiques.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ris : CNRS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Lebahar Jean-Charles. </a:t>
            </a: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La conception en design industriel et en architecture; désir, pertinence, coopération et cognition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. Cachan : Lavoisier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llectif. </a:t>
            </a: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Les grands dossiers des sciences humaines : entre image et écriture, la découverte des systèmes graphiques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. Trimestriel n°11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ola Gregory. </a:t>
            </a: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New scapes : Territories of complexity.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asel, Suisse : Birkhä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6000" y="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CONCEPTION ARCHITECTURALE PAR LE </a:t>
            </a:r>
            <a:r>
              <a:rPr b="0" lang="fr-FR" sz="2400" spc="-1" strike="noStrike">
                <a:solidFill>
                  <a:srgbClr val="f57b17"/>
                </a:solidFill>
                <a:latin typeface="Calibri"/>
              </a:rPr>
              <a:t>NUME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9:15:54Z</dcterms:created>
  <dc:creator>James Bond</dc:creator>
  <dc:description/>
  <dc:language>en-US</dc:language>
  <cp:lastModifiedBy>James Bond</cp:lastModifiedBy>
  <dcterms:modified xsi:type="dcterms:W3CDTF">2009-04-24T06:46:14Z</dcterms:modified>
  <cp:revision>2</cp:revision>
  <dc:subject/>
  <dc:title>LA CONCEPTION ARCHITECTURALE  PAR LE NUMERIQUE</dc:title>
</cp:coreProperties>
</file>